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C5D7-D5BC-4869-9381-FEABB37F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487-FD9D-45B4-9C13-54BD06C4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A06-8DFF-4C38-86BF-2DA885EE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A9F-7E51-4EAD-90F7-02BD930A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4BEE-98E8-4119-B212-611EA553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B5B2-C5B0-4170-80FE-B85B95C5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A8E7-234B-4D98-BD93-90298731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36F-35EF-4C2B-803C-E5C19714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DE37-A91B-44A0-85CD-8B7E81EF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D04-CE41-414C-B725-A481FD4A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2393-A0FB-48FB-A43A-906F2967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355-CF10-4477-B0AC-7858543E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9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CC56-20C3-4060-9723-5034249D0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5105520" cy="129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12-2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India Voc. PPT due next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S.E. Asia Map TEST next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1295280"/>
            <a:ext cx="5105520" cy="283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No Focus today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“THIS WEEK” on the wiki and practice the So. East Asia Map Quiz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Sheppar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Then S.E. Asia 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Then see if you can master the TIMED quiz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When you feel confident of knowing the countries, then work on the Buddhism Mini Poster that is due TODAY at the end of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movmonk"/>
          <p:cNvPicPr/>
          <p:nvPr/>
        </p:nvPicPr>
        <p:blipFill>
          <a:blip r:embed="rId1"/>
          <a:stretch/>
        </p:blipFill>
        <p:spPr>
          <a:xfrm>
            <a:off x="1905120" y="4572000"/>
            <a:ext cx="1447560" cy="1407960"/>
          </a:xfrm>
          <a:prstGeom prst="rect">
            <a:avLst/>
          </a:prstGeom>
          <a:ln w="0">
            <a:noFill/>
          </a:ln>
        </p:spPr>
      </p:pic>
      <p:sp>
        <p:nvSpPr>
          <p:cNvPr id="44" name="TextBox 11"/>
          <p:cNvSpPr/>
          <p:nvPr/>
        </p:nvSpPr>
        <p:spPr>
          <a:xfrm>
            <a:off x="0" y="6211800"/>
            <a:ext cx="510552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Buddhism Poster due TODAY at the END of class—Place in HR tr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4" descr="http://edu.glogster.com/media/5/22/80/59/22805997.jpg"/>
          <p:cNvPicPr/>
          <p:nvPr/>
        </p:nvPicPr>
        <p:blipFill>
          <a:blip r:embed="rId2"/>
          <a:srcRect l="5778" t="0" r="0" b="2387"/>
          <a:stretch/>
        </p:blipFill>
        <p:spPr>
          <a:xfrm>
            <a:off x="5105520" y="0"/>
            <a:ext cx="4038480" cy="350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" descr="http://www.jendhamuni.com/gImages/misunderstandingBuddhism.jpg"/>
          <p:cNvPicPr/>
          <p:nvPr/>
        </p:nvPicPr>
        <p:blipFill>
          <a:blip r:embed="rId3"/>
          <a:srcRect l="0" t="4589" r="0" b="0"/>
          <a:stretch/>
        </p:blipFill>
        <p:spPr>
          <a:xfrm>
            <a:off x="6019920" y="3467160"/>
            <a:ext cx="2209680" cy="3390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http://www.buddhanet.net/e-learning/buddhistworld/images/bangladesh_monks.jpg"/>
          <p:cNvPicPr/>
          <p:nvPr/>
        </p:nvPicPr>
        <p:blipFill>
          <a:blip r:embed="rId4"/>
          <a:stretch/>
        </p:blipFill>
        <p:spPr>
          <a:xfrm>
            <a:off x="0" y="41911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" descr="http://www2.pictures.gi.zimbio.com/Indonesia%2BCommemorates%2BBuddha%2BBirthday%2B8IuR6Oq2RZVl.jpg"/>
          <p:cNvPicPr/>
          <p:nvPr/>
        </p:nvPicPr>
        <p:blipFill>
          <a:blip r:embed="rId5"/>
          <a:srcRect l="0" t="0" r="34878" b="0"/>
          <a:stretch/>
        </p:blipFill>
        <p:spPr>
          <a:xfrm>
            <a:off x="3505320" y="4187880"/>
            <a:ext cx="190476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21:25:21Z</dcterms:created>
  <dc:creator>sramsey</dc:creator>
  <dc:description/>
  <dc:language>en-US</dc:language>
  <cp:lastModifiedBy>poweruser</cp:lastModifiedBy>
  <dcterms:modified xsi:type="dcterms:W3CDTF">2011-12-02T13:46:35Z</dcterms:modified>
  <cp:revision>48</cp:revision>
  <dc:subject/>
  <dc:title>Slide 1</dc:title>
</cp:coreProperties>
</file>